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0426-F297-427C-801D-5DD900B03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09D3-B349-4AB7-9453-0499E2B62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F5B1-9798-4244-840F-113E57071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6FCE-FB2E-4C9D-ADDC-BB0CDA129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7E25-7D44-4B6A-8749-15068654C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E324-7084-4A10-99BB-A7A3DA4D5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5277-1503-44F5-B058-CA8C36D9A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080D-45D8-4327-93D0-1628B2C87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356E-DD02-4DB0-A3EA-25D6602CC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68DB-AF53-4292-AAC3-095FCC7E8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7C7B-F70C-4B41-926A-8566B207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55F1-DB4D-4ECD-A74E-D65526769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D3CBC-DDDA-4AD4-9838-285E0289A0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.C. Calculatorul SR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627280" y="2421000"/>
            <a:ext cx="361944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Organigrama societăț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442800" y="1614600"/>
            <a:ext cx="8208360" cy="4462560"/>
            <a:chOff x="442800" y="1614600"/>
            <a:chExt cx="8208360" cy="4462560"/>
          </a:xfrm>
        </p:grpSpPr>
        <p:cxnSp>
          <p:nvCxnSpPr>
            <p:cNvPr id="45" name="_s3085"/>
            <p:cNvCxnSpPr>
              <a:stCxn id="46" idx="0"/>
              <a:endCxn id="47" idx="2"/>
            </p:cNvCxnSpPr>
            <p:nvPr/>
          </p:nvCxnSpPr>
          <p:spPr>
            <a:xfrm flipV="1" rot="16200000">
              <a:off x="5536800" y="240840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8" name="_s3084"/>
            <p:cNvCxnSpPr>
              <a:stCxn id="49" idx="0"/>
              <a:endCxn id="47" idx="2"/>
            </p:cNvCxnSpPr>
            <p:nvPr/>
          </p:nvCxnSpPr>
          <p:spPr>
            <a:xfrm flipV="1">
              <a:off x="4547160" y="3398760"/>
              <a:ext cx="3600" cy="893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0" name="_s3083"/>
            <p:cNvCxnSpPr>
              <a:stCxn id="51" idx="0"/>
              <a:endCxn id="47" idx="2"/>
            </p:cNvCxnSpPr>
            <p:nvPr/>
          </p:nvCxnSpPr>
          <p:spPr>
            <a:xfrm flipH="1" flipV="1" rot="5400000">
              <a:off x="2664000" y="240876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7" name="_s3079"/>
            <p:cNvSpPr/>
            <p:nvPr/>
          </p:nvSpPr>
          <p:spPr>
            <a:xfrm>
              <a:off x="3315600" y="161460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Manager unitat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3080"/>
            <p:cNvSpPr/>
            <p:nvPr/>
          </p:nvSpPr>
          <p:spPr>
            <a:xfrm>
              <a:off x="442800" y="42922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Director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marketing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3081"/>
            <p:cNvSpPr/>
            <p:nvPr/>
          </p:nvSpPr>
          <p:spPr>
            <a:xfrm>
              <a:off x="3315600" y="42922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Director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resurse umane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3082"/>
            <p:cNvSpPr/>
            <p:nvPr/>
          </p:nvSpPr>
          <p:spPr>
            <a:xfrm>
              <a:off x="6188760" y="42922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Director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economic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agini calculato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ferta lunii April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Imprimante – 20% reduc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Monitoare – 15% reduc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Mouse – 10% reduc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Multifuncționale – 10% reduc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Scanner – 25% reduc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Adres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Loc. Cluj Napo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Str. Avram Iancu Nr. 2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cod. 4074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jud. Clu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Tel. 02641234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emai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etter"/>
          <p:cNvSpPr/>
          <p:nvPr/>
        </p:nvSpPr>
        <p:spPr>
          <a:xfrm>
            <a:off x="2340000" y="5157720"/>
            <a:ext cx="1800360" cy="7923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19:41:46Z</dcterms:created>
  <dc:creator>AS</dc:creator>
  <dc:description/>
  <dc:language>en-US</dc:language>
  <cp:lastModifiedBy>AS</cp:lastModifiedBy>
  <dcterms:modified xsi:type="dcterms:W3CDTF">2010-01-08T20:00:00Z</dcterms:modified>
  <cp:revision>4</cp:revision>
  <dc:subject/>
  <dc:title>S.C. Calculatorul SRL</dc:title>
</cp:coreProperties>
</file>